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22.png" ContentType="image/png"/>
  <Override PartName="/ppt/media/image4.wmf" ContentType="image/x-wmf"/>
  <Override PartName="/ppt/media/image5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7DE1-2800-4969-97C0-99F8E7AFB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8339-D6E8-45E4-A151-88B5125FB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F076-1F1C-4748-80E8-E473D6828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2B92-8822-4A76-9A6A-CC7517F05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6246-3913-4E77-A740-88DD307E5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0A57-A000-4C5E-9E0E-D89BB4666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6EFB-8E4A-4DD0-9C72-FEAFF4E38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2BE0-2868-4067-BA89-190F5AE3A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9FE9-92F2-41C0-9021-FADB0E894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2958-325F-4A48-8B95-01C830B4C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1795-BB8E-409E-8443-2E00E5C572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0D03-4E93-438A-8412-62B2B861A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57F8-834D-4313-BFA6-1D12C0AED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11F8-909F-453B-BC68-3837FD583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0DAC-A189-495E-A32E-E503E5E4C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043B-E0FF-44F2-A13E-6BFA0551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C36A-5BD7-41D6-AE69-95A8E8CA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5C37B-6770-4F37-8DB6-3D85144D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50D62B-43AA-4B5B-AF83-7C8E884C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B5FB86-56F5-40D7-9926-B1605E7F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DC5F3-9F21-40F9-A342-8089AE21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21C077-8BD0-4012-A403-C791927D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6CBB88-74E6-4ECC-9974-1F4CB541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EE010-AB86-4ABF-9157-B890E536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8C4E9-8176-456F-A97B-EB1E08D5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75A7F1-6E06-4B1A-BA3E-C2E2B29B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659814-CE9E-4351-A28D-36FBA295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A867-280A-4307-83F2-D10369AD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3CF346-098E-4564-BFC2-797BC17A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DCF527-DE1E-4A5C-93F3-C8EC50C1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12A0A7-8E5E-4DBF-8949-17F77DEE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41EFDD-625D-4638-B4B2-ED94A245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978B20-674D-49F8-84F6-264D8EF3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0C13C3-988A-4C10-8343-022943A8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E80B71-2384-4820-A0E1-CB2B0B35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639543-CC1F-40E8-B55D-20F73F47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01696E-E8AC-4CA1-8FD0-2E68C531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03B729-5BCD-498A-BD2A-B8CA6D7B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B24B-F984-48B1-B902-B79ECF2C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739F76-A8CA-493C-9733-8E512D92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2EF0-3DEA-4286-BF7B-37A28B08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2929-C093-4909-9EAE-AA3BEA72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993E-2093-45F8-BF58-C9EB19CA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81B2-B8F1-4EBB-A171-0FDD7BBE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1D61-04C0-49D4-8045-49DE24FF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6172-2582-430D-9C5A-DB5E8D05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B0E2-FB99-42BC-9BA9-8EC39679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603B-EA6F-4ADC-B02A-4409BC8B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8B82-3E35-4AFA-88AD-1381ECFC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62BE-58F7-49CE-84F0-986E1162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68C2-4931-4B72-AF9F-6D30D3D6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162C-7BF8-4237-9A4A-7BA73BF7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F493-289E-46C2-A298-07CA2781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BD5B4-830E-477E-8620-D274544C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2B10E-70FF-4FAE-9D72-B5CF7DC0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84064-46D6-44B6-A023-3029956A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0EDE4-5997-4850-8DD1-E67271A7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A8DD2-2571-4421-9C7D-CC7CBC34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71B-2E90-4E9F-B947-E3CB5BA0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496EB-FCE4-4422-99A9-8F5691BE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1842B-C352-42F1-90FB-FC41A9CF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C08D0-E67E-483B-BA93-5B431CBA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9435E-A56E-494E-B3A4-CAF82F0B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98745-FDB3-4CAA-BC09-12A8508A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AB2A4-B29C-4468-8A14-D4DD9C6D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D3F11-D2E2-4BD5-BBDC-2696EC30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DFB23-7169-4EBC-B1FA-962B18C0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4939A-B7AA-4BDD-8A2B-8E33543C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87491-E78E-4FB1-98C3-E07CF9BA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5209-4650-4C8E-B500-2B8D4963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EAD5D-8140-45A6-A96C-05676291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8403B-C437-4A0E-B3BD-42B31AE1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6D355-3CCE-4B6B-A3C0-E7B5858D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955C5-2BF2-4A85-BD28-EFC80C67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64217-E272-4EAB-934A-48A3854C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FE06A-07D6-46FD-957A-E451DC67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34769-7762-42D0-B3EE-219C7A4F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EDA5D-E9D1-4727-B628-AB46DF38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21027-C6DD-41B5-8E1F-15574E98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61A9F-B636-4B1C-9957-B02735A8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DD96-A5FB-4ACB-896F-ADC703CE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DD34C-67AD-4C8A-87F0-C21022BE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ED373-7164-4450-9B9A-316E2813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F0A46-D073-4CBC-BE4E-EE0A74BB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B878F-625A-4590-BE8D-24DCC3D7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86277-B6C7-458C-AFBE-0689A3E8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6BC80-3D33-4123-A00C-B03BD018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F02EC-8F42-4109-9267-C7FFC265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F6224-181C-4C7C-9690-B7CCC274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7770D-FE1A-49A9-98CD-5D5FB883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073DE-0AE4-42E8-A21E-8B4BF007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8B49-127D-4C68-8730-BB6C1CDC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A9DD6-8599-4613-9475-FA1775FF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DE99E6-0AAF-4BC2-9639-365E3EF5C89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B6EC44-2C30-4F6D-A865-EEBC5ABC9F9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E8FB3D-2B5F-46B2-99FA-7D6D6122133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A03AA2-84BF-431D-AE1D-E15C0675CD8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8F53BC-1F99-405A-85DB-FA3F81C1144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75E51E-450C-4AB9-836A-0826233A2DD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0005BB-45D8-4730-AF4C-1CA60F73810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65E6CD-9C52-4D86-8436-99867870604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C6CC63-E2B8-4356-A9A0-14C8E5F5A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8661-1907-4679-883D-BD525F9F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1970D3-45B7-4FB7-BFFC-66BC9778FDB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25794B-DBED-4A03-ADEA-6EA2614E2FF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7958DE-CCE5-4478-AD4B-1E9ACBD92ED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18E06E-6AB7-4BA2-86AA-54CD9C1D668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C6805A-A58E-4D23-8897-985AA013A4A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CF757B-4E2C-4EFC-BFB3-4D51067B63F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FF1E0A-597A-43D6-80B3-803046DDD83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0F448B-55DA-47E9-811B-EA392D6711E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512243-3624-4FA5-B737-A79BC8D029D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2B4C87-51AD-4C58-B7FB-98D319349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D56B-45F8-4EAA-8BAF-8C651B2F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866E5D-57F0-4B2A-91F1-4269771D28D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027EE2-D0DF-49BF-880C-062E4D7D91B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22810C-35E5-43BD-89E4-62DCBF136DB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5C20A3-33EA-418E-AE9A-2FAE7E7C79A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47CC43-85F3-408E-9B4A-D6D0D05FB12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D46EBE-79A7-4073-AA87-F9B4EEEE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30F83F-75E9-4BBE-9AD9-FC8310E8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7B43B6-BA92-47A5-9366-31F331FC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5E34AE-85FF-4CEA-A21C-F04A0439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07B405-D33C-4145-8913-EC83600C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CAD5-33C9-4E64-9D3A-86832FAA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43563E-CF2D-4CCD-8D04-8130935D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65E87A-C1D3-41F3-917E-B60A3DA8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EAB26B-70FF-40D6-95DE-0AF3F476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6BC717-663D-4A14-8E4D-138779CF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3A1530-198D-4C66-94B6-EE519458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00EDFF-6B35-4094-9190-DD2C742B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BECF1B-9D8F-4C8B-B41B-86A669EC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7D2CE-BC97-4ECB-AAB6-36A99B4E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512AFA-3267-44B7-B134-26573D70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C41527-0183-4AEB-B17A-3790E76F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2A60D4A-2481-4B9B-9ECE-E7E1F1BF0F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4682D3F-97EC-4F27-84E8-AB01B6B79D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EDE36C3-D3D1-4EEA-BA88-C854391C8A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5A00C85-9062-49F0-9959-B1A5CD1C91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AA9F73D-CCF2-4430-B23D-EC76783089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83DBD57-EE5D-42F8-B22F-2B6AF44004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32EA3A7-67F9-41FF-A02A-0A42D29E29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1984E6C-E45A-4B2C-928C-7E2AC08CA2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Elasticity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4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07AF1A5B-5D0B-490D-A87C-54A3161672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elasticity coefficients for eac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517760" y="1300320"/>
          <a:ext cx="6168960" cy="1523880"/>
        </p:xfrm>
        <a:graphic>
          <a:graphicData uri="http://schemas.openxmlformats.org/drawingml/2006/table">
            <a:tbl>
              <a:tblPr/>
              <a:tblGrid>
                <a:gridCol w="2195280"/>
                <a:gridCol w="1898640"/>
                <a:gridCol w="2075040"/>
              </a:tblGrid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TextBox 14"/>
          <p:cNvSpPr/>
          <p:nvPr/>
        </p:nvSpPr>
        <p:spPr>
          <a:xfrm>
            <a:off x="822960" y="3625920"/>
            <a:ext cx="80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et I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.67.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2–1) x1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9 – 8) x 100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=  66.66%/11.7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1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            8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Box 8"/>
          <p:cNvSpPr/>
          <p:nvPr/>
        </p:nvSpPr>
        <p:spPr>
          <a:xfrm>
            <a:off x="816120" y="4500720"/>
            <a:ext cx="80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et II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18.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9–8) x1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2 – 1) x 100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=  11.76%/66.6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8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        1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12120B83-D717-4DA2-99CF-D4258EA97D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ach set the change in price is $1 and the change in quantity is 1 unit. Why aren’t the coefficients the sam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1517760" y="1300320"/>
          <a:ext cx="6168960" cy="1523880"/>
        </p:xfrm>
        <a:graphic>
          <a:graphicData uri="http://schemas.openxmlformats.org/drawingml/2006/table">
            <a:tbl>
              <a:tblPr/>
              <a:tblGrid>
                <a:gridCol w="2195280"/>
                <a:gridCol w="1898640"/>
                <a:gridCol w="2075040"/>
              </a:tblGrid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TextBox 8"/>
          <p:cNvSpPr/>
          <p:nvPr/>
        </p:nvSpPr>
        <p:spPr>
          <a:xfrm>
            <a:off x="795240" y="3884760"/>
            <a:ext cx="801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y are not the same because the $1 change in price is a small % change in Set 1, but a big % change in Set 2.  Similarly, 1 unit is a big % change in Set 1, but a small % change in Set 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and Total Revenu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81C3294-B365-40A1-B75C-B9925455F5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42380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demand is elastic, an increase in price will decrease revenu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demand is inelastic, an increase in price will increase revenue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649440" y="3430440"/>
          <a:ext cx="7867440" cy="2230560"/>
        </p:xfrm>
        <a:graphic>
          <a:graphicData uri="http://schemas.openxmlformats.org/drawingml/2006/table">
            <a:tbl>
              <a:tblPr/>
              <a:tblGrid>
                <a:gridCol w="1106280"/>
                <a:gridCol w="1125720"/>
                <a:gridCol w="1701720"/>
                <a:gridCol w="982440"/>
                <a:gridCol w="1106640"/>
                <a:gridCol w="1844640"/>
              </a:tblGrid>
              <a:tr h="54612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Edmo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Cal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: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: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</a:tr>
              <a:tr h="560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2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12" name="Right Brace 12"/>
          <p:cNvSpPr/>
          <p:nvPr/>
        </p:nvSpPr>
        <p:spPr>
          <a:xfrm rot="5400000">
            <a:off x="2449800" y="3991680"/>
            <a:ext cx="351000" cy="3870360"/>
          </a:xfrm>
          <a:custGeom>
            <a:avLst/>
            <a:gdLst>
              <a:gd name="textAreaLeft" fmla="*/ 0 w 351000"/>
              <a:gd name="textAreaRight" fmla="*/ 126720 w 351000"/>
              <a:gd name="textAreaTop" fmla="*/ 9000 h 3870360"/>
              <a:gd name="textAreaBottom" fmla="*/ 3861360 h 387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2"/>
                  <a:pt x="10800" y="163"/>
                </a:cubicBezTo>
                <a:lnTo>
                  <a:pt x="10800" y="10637"/>
                </a:lnTo>
                <a:cubicBezTo>
                  <a:pt x="10800" y="10719"/>
                  <a:pt x="16200" y="10800"/>
                  <a:pt x="21600" y="10800"/>
                </a:cubicBezTo>
                <a:cubicBezTo>
                  <a:pt x="16200" y="10800"/>
                  <a:pt x="10800" y="10882"/>
                  <a:pt x="10800" y="10963"/>
                </a:cubicBezTo>
                <a:lnTo>
                  <a:pt x="10800" y="21437"/>
                </a:lnTo>
                <a:cubicBezTo>
                  <a:pt x="10800" y="21519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Box 13"/>
          <p:cNvSpPr/>
          <p:nvPr/>
        </p:nvSpPr>
        <p:spPr>
          <a:xfrm>
            <a:off x="1898640" y="603900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ight Brace 14"/>
          <p:cNvSpPr/>
          <p:nvPr/>
        </p:nvSpPr>
        <p:spPr>
          <a:xfrm rot="5400000">
            <a:off x="6359760" y="3993120"/>
            <a:ext cx="350640" cy="3870360"/>
          </a:xfrm>
          <a:custGeom>
            <a:avLst/>
            <a:gdLst>
              <a:gd name="textAreaLeft" fmla="*/ 0 w 350640"/>
              <a:gd name="textAreaRight" fmla="*/ 126720 w 350640"/>
              <a:gd name="textAreaTop" fmla="*/ 9000 h 3870360"/>
              <a:gd name="textAreaBottom" fmla="*/ 3861360 h 387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2"/>
                  <a:pt x="10800" y="163"/>
                </a:cubicBezTo>
                <a:lnTo>
                  <a:pt x="10800" y="10637"/>
                </a:lnTo>
                <a:cubicBezTo>
                  <a:pt x="10800" y="10719"/>
                  <a:pt x="16200" y="10800"/>
                  <a:pt x="21600" y="10800"/>
                </a:cubicBezTo>
                <a:cubicBezTo>
                  <a:pt x="16200" y="10800"/>
                  <a:pt x="10800" y="10882"/>
                  <a:pt x="10800" y="10963"/>
                </a:cubicBezTo>
                <a:lnTo>
                  <a:pt x="10800" y="21437"/>
                </a:lnTo>
                <a:cubicBezTo>
                  <a:pt x="10800" y="21519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5"/>
          <p:cNvSpPr/>
          <p:nvPr/>
        </p:nvSpPr>
        <p:spPr>
          <a:xfrm>
            <a:off x="6005880" y="602136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and Total Revenu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563400" y="2019240"/>
          <a:ext cx="7974000" cy="3538440"/>
        </p:xfrm>
        <a:graphic>
          <a:graphicData uri="http://schemas.openxmlformats.org/drawingml/2006/table">
            <a:tbl>
              <a:tblPr/>
              <a:tblGrid>
                <a:gridCol w="2838600"/>
                <a:gridCol w="2328840"/>
                <a:gridCol w="2806560"/>
              </a:tblGrid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Demand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d Price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n Total Revenue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lastic (&l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lastic (&l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c (&g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c (&g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ary elastic (=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ys the 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ary elastic (=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ys the 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5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2A99A46A-12AA-4863-B8C2-19511DE4AC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4B5E2E8A-DB93-4FDC-B4F3-B73D1C6932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happen to total revenue in each of the circumstances below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fal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rises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fa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rises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and price ri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5C9C68AD-208D-4B51-B570-2D7172996D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happen to total revenue in each of the circumstances below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fal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rises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fa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rises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and price ri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Box 9"/>
          <p:cNvSpPr/>
          <p:nvPr/>
        </p:nvSpPr>
        <p:spPr>
          <a:xfrm>
            <a:off x="1185120" y="31892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rises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Box 8"/>
          <p:cNvSpPr/>
          <p:nvPr/>
        </p:nvSpPr>
        <p:spPr>
          <a:xfrm>
            <a:off x="4718880" y="31719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rises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Box 10"/>
          <p:cNvSpPr/>
          <p:nvPr/>
        </p:nvSpPr>
        <p:spPr>
          <a:xfrm>
            <a:off x="1181880" y="43340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fall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11"/>
          <p:cNvSpPr/>
          <p:nvPr/>
        </p:nvSpPr>
        <p:spPr>
          <a:xfrm>
            <a:off x="4736520" y="4338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fall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13"/>
          <p:cNvSpPr/>
          <p:nvPr/>
        </p:nvSpPr>
        <p:spPr>
          <a:xfrm>
            <a:off x="1196280" y="5454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No chang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and Slop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AFAF1DB-2951-44A6-9C36-D0DE687F28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lop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ise over ru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lasticit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centage change in quantity over percentage change in price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4A72283-CCE3-4335-B49D-1444E46DD5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3" descr="Fig4_1.bmp"/>
          <p:cNvPicPr/>
          <p:nvPr/>
        </p:nvPicPr>
        <p:blipFill>
          <a:blip r:embed="rId1"/>
          <a:stretch/>
        </p:blipFill>
        <p:spPr>
          <a:xfrm>
            <a:off x="0" y="0"/>
            <a:ext cx="744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63DA033E-8F68-42BC-8D4C-F026518D28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Picture 4" descr="Fig4_2.bmp"/>
          <p:cNvPicPr/>
          <p:nvPr/>
        </p:nvPicPr>
        <p:blipFill>
          <a:blip r:embed="rId1"/>
          <a:stretch/>
        </p:blipFill>
        <p:spPr>
          <a:xfrm>
            <a:off x="0" y="0"/>
            <a:ext cx="877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4BDC87E9-70F7-44E8-BA18-8315EA334E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457200" y="1457280"/>
            <a:ext cx="84582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a demand curve using the data from the demand schedule (make each square on both axes equal to 2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lope of this demand curv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ould you demonstrate that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sticity of demand was not the same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6078600" y="2338560"/>
          <a:ext cx="2576520" cy="3498840"/>
        </p:xfrm>
        <a:graphic>
          <a:graphicData uri="http://schemas.openxmlformats.org/drawingml/2006/table">
            <a:tbl>
              <a:tblPr/>
              <a:tblGrid>
                <a:gridCol w="1130400"/>
                <a:gridCol w="1446120"/>
              </a:tblGrid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Elasticity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Understand the concept and calculate price elasticity of deman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Understand the relationship between the slope of a demand curve and elasticity and how this affects the total revenue of the producer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Understand the determinants of price elasticity of deman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4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D1E2E565-350E-42D9-9941-D3634E7889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B220230F-34C9-4492-B9AA-C2AC0CEC84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457200" y="1457280"/>
            <a:ext cx="84582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a demand curve using the data from the demand schedule (make each square on both axes equal to 2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078600" y="2338560"/>
          <a:ext cx="2576520" cy="3498840"/>
        </p:xfrm>
        <a:graphic>
          <a:graphicData uri="http://schemas.openxmlformats.org/drawingml/2006/table">
            <a:tbl>
              <a:tblPr/>
              <a:tblGrid>
                <a:gridCol w="1130400"/>
                <a:gridCol w="1446120"/>
              </a:tblGrid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5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18960" y="2317680"/>
            <a:ext cx="5518440" cy="375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9F33B54C-887F-443E-9641-45487338F9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457200" y="1457280"/>
            <a:ext cx="84582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lope of this demand curve?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ould you demonstrate that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sticity of demand was not the same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9"/>
          <p:cNvSpPr/>
          <p:nvPr/>
        </p:nvSpPr>
        <p:spPr>
          <a:xfrm>
            <a:off x="901080" y="19242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/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∆P/∆Q) = 1/–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6078600" y="2338560"/>
          <a:ext cx="2576520" cy="3498840"/>
        </p:xfrm>
        <a:graphic>
          <a:graphicData uri="http://schemas.openxmlformats.org/drawingml/2006/table">
            <a:tbl>
              <a:tblPr/>
              <a:tblGrid>
                <a:gridCol w="1130400"/>
                <a:gridCol w="1446120"/>
              </a:tblGrid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568" name="TextBox 8"/>
          <p:cNvSpPr/>
          <p:nvPr/>
        </p:nvSpPr>
        <p:spPr>
          <a:xfrm>
            <a:off x="520560" y="3789360"/>
            <a:ext cx="527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 elasticity coefficient for a price change from, say, 4 to 5 is 0.82 which is quite different from the slope of  – 1/2.  In fact, elasticity varies along any curve despite the fact that the slope is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s of elastic and inelastic demand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61D0B074-0598-4CFF-930A-C59AE229F4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744480" y="2243160"/>
          <a:ext cx="7836120" cy="3457440"/>
        </p:xfrm>
        <a:graphic>
          <a:graphicData uri="http://schemas.openxmlformats.org/drawingml/2006/table">
            <a:tbl>
              <a:tblPr/>
              <a:tblGrid>
                <a:gridCol w="3865680"/>
                <a:gridCol w="397044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dities That Have Elastic Dem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dities That Have Inelastic Dem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sh tomatoes (4.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 electricity (0.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ies (3.4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ggs (0.3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b (2.6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repairs (0.3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taurant meals (1.6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d (0.5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 and tableware (1.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 appliances (0.6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mobiles (1.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bacco (0.8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600"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rce: H.S. Houthakker and Lester D. Taylor, Consumer Demand in the United States (Cambridge, MA: Harvard University Press, 1970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Determinants of Price Elasticit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74276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demand for a product is more elastic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loser and the greater are the number of available substitutes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larger the percentage of one’s income that is spent on the product; an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longer the time period involved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Kaling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B3010220-C986-4B30-9240-EDFD86226A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FC2561E1-322A-42BF-AF9E-F5E9521DBA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e that elasticity coefficients were recently measured in Canada over a period of one year for the following products. Indicate whether you think such a measurement would be elastic (&gt;1) or inelastic (&lt;1) demand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aurant meal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o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’s hat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 cru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74377358-DAE1-48BB-A034-503E83D79A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e that elasticity coefficients were recently measured in Canada over a period of one year for the following products. Indicate whether you think such a measurement would be elastic (&gt;1) or inelastic (&lt;1) demand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aurant meal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o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’s hat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 cru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Box 6"/>
          <p:cNvSpPr/>
          <p:nvPr/>
        </p:nvSpPr>
        <p:spPr>
          <a:xfrm>
            <a:off x="930240" y="37958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nelastic (&lt;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Box 8"/>
          <p:cNvSpPr/>
          <p:nvPr/>
        </p:nvSpPr>
        <p:spPr>
          <a:xfrm>
            <a:off x="912960" y="4522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nelastic (&lt;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9"/>
          <p:cNvSpPr/>
          <p:nvPr/>
        </p:nvSpPr>
        <p:spPr>
          <a:xfrm>
            <a:off x="916200" y="5238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lastic (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10"/>
          <p:cNvSpPr/>
          <p:nvPr/>
        </p:nvSpPr>
        <p:spPr>
          <a:xfrm>
            <a:off x="4587840" y="38163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lastic (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1"/>
          <p:cNvSpPr/>
          <p:nvPr/>
        </p:nvSpPr>
        <p:spPr>
          <a:xfrm>
            <a:off x="4559400" y="4522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lastic (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Box 13"/>
          <p:cNvSpPr/>
          <p:nvPr/>
        </p:nvSpPr>
        <p:spPr>
          <a:xfrm>
            <a:off x="4562640" y="5238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nelastic (&lt;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pplications of Pric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57284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xcise Tax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sales tax imposed on a particular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05B846C3-4324-4470-A378-0A208D3759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11" descr="Fig4-6.bmp"/>
          <p:cNvPicPr/>
          <p:nvPr/>
        </p:nvPicPr>
        <p:blipFill>
          <a:blip r:embed="rId1"/>
          <a:stretch/>
        </p:blipFill>
        <p:spPr>
          <a:xfrm>
            <a:off x="0" y="2751120"/>
            <a:ext cx="9144000" cy="36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pplications of Pric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re inelastic the demand for a product, the larger is the percentage of a sales (or excise) tax the consumer will pa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1F4605D-8995-4E33-AC03-C8EC115201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12" descr="Fig4-7.bmp"/>
          <p:cNvPicPr/>
          <p:nvPr/>
        </p:nvPicPr>
        <p:blipFill>
          <a:blip r:embed="rId1"/>
          <a:stretch/>
        </p:blipFill>
        <p:spPr>
          <a:xfrm>
            <a:off x="0" y="2782800"/>
            <a:ext cx="9144000" cy="365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of Supply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easure of how much quantity supplied changes as a result of a change in p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11E31746-CA41-4065-89E5-01E33A1661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ounded Rectangle 7"/>
          <p:cNvSpPr/>
          <p:nvPr/>
        </p:nvSpPr>
        <p:spPr>
          <a:xfrm>
            <a:off x="2743200" y="2498760"/>
            <a:ext cx="370044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795760" y="2625840"/>
            <a:ext cx="3543120" cy="89352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3094200" y="4390920"/>
            <a:ext cx="3073320" cy="172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of Suppl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7200" y="136044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: When price changes from $2 to $3, the quantity supplied rises from 400 to 500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3AD56B90-CC3A-4DFE-BCB2-F687B5D5A5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2637000" y="4678200"/>
            <a:ext cx="3859200" cy="14432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3147840" y="2751120"/>
            <a:ext cx="2859120" cy="160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Elasticity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 Use real-world examples to demonstrate that the concept of elasticity is a powerful tool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 Understand the meaning and significance  of elasticity of supply, income elasticity, and cross-elasticity of deman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4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E8B23743-758A-4E08-B12F-DDB443FBEB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4042DD9D-CF27-4BDC-94AA-53A5F81C38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12" descr="Fig4_12.bmp"/>
          <p:cNvPicPr/>
          <p:nvPr/>
        </p:nvPicPr>
        <p:blipFill>
          <a:blip r:embed="rId1"/>
          <a:stretch/>
        </p:blipFill>
        <p:spPr>
          <a:xfrm>
            <a:off x="0" y="490680"/>
            <a:ext cx="9144000" cy="584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erfectly Inelastic 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46A1454E-416A-4690-8025-D718DD898F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Picture 13" descr="Fig4-13.bmp"/>
          <p:cNvPicPr/>
          <p:nvPr/>
        </p:nvPicPr>
        <p:blipFill>
          <a:blip r:embed="rId1"/>
          <a:stretch/>
        </p:blipFill>
        <p:spPr>
          <a:xfrm>
            <a:off x="0" y="1630440"/>
            <a:ext cx="8962920" cy="425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Incom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responsiveness of quantity demanded to a change in incom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5B88CD3-C6CC-4C73-A566-77D91215B4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ounded Rectangle 7"/>
          <p:cNvSpPr/>
          <p:nvPr/>
        </p:nvSpPr>
        <p:spPr>
          <a:xfrm>
            <a:off x="2084400" y="2498760"/>
            <a:ext cx="493236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286000" y="2637000"/>
            <a:ext cx="4527720" cy="89352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2955960" y="4402080"/>
            <a:ext cx="3306600" cy="178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Incom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0162D0C1-496B-42E3-B11B-44637ED720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934920" y="1865160"/>
          <a:ext cx="7347240" cy="3568680"/>
        </p:xfrm>
        <a:graphic>
          <a:graphicData uri="http://schemas.openxmlformats.org/drawingml/2006/table">
            <a:tbl>
              <a:tblPr/>
              <a:tblGrid>
                <a:gridCol w="2449800"/>
                <a:gridCol w="2449440"/>
                <a:gridCol w="24480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If coefficient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Type of Good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Demand i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91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ater than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 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xury goo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 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91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than 1 but greater than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 – </a:t>
                      </a:r>
                      <a:br>
                        <a:rPr sz="2400"/>
                      </a:b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cessit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 in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than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ior 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gative income elasti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Income Elasticit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BLE 4.9 Differences in Spending between the Richest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Poorest Groups in Canada, 1996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B51A4B0C-B69C-4E03-B818-7E936CD917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552600" y="2487600"/>
          <a:ext cx="7995960" cy="3754440"/>
        </p:xfrm>
        <a:graphic>
          <a:graphicData uri="http://schemas.openxmlformats.org/drawingml/2006/table">
            <a:tbl>
              <a:tblPr/>
              <a:tblGrid>
                <a:gridCol w="1168200"/>
                <a:gridCol w="1282680"/>
                <a:gridCol w="1401840"/>
                <a:gridCol w="1244520"/>
                <a:gridCol w="1381320"/>
                <a:gridCol w="1517400"/>
              </a:tblGrid>
              <a:tr h="293760"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ome Inela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ome Ela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560">
                <a:tc>
                  <a:txBody>
                    <a:bodyPr lIns="0" rIns="0" tIns="0" bIns="0" anchor="b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rni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el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re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bacco 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coh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gridSpan="6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: Based on Statistics Canada, Family Expenditure in Canada, 1996, catalogue no. 62-555-XPB, released on July 28, 199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07162418-984A-4A52-A0E7-606D6C2E2E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457200" y="1328760"/>
            <a:ext cx="84582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iven the following data.  Assume that the prices of X and Y do not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income elasticity for products X and Y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products X and Y normal go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1351080" y="2403360"/>
          <a:ext cx="6464160" cy="1225800"/>
        </p:xfrm>
        <a:graphic>
          <a:graphicData uri="http://schemas.openxmlformats.org/drawingml/2006/table">
            <a:tbl>
              <a:tblPr/>
              <a:tblGrid>
                <a:gridCol w="1631880"/>
                <a:gridCol w="2415960"/>
                <a:gridCol w="2416320"/>
              </a:tblGrid>
              <a:tr h="609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E564D6A1-F174-4B0A-B6E7-62829E75AA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457200" y="1328760"/>
            <a:ext cx="84582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iven the following data.  Assume that the prices of X and Y do not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income elasticity for products X and Y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351080" y="2403360"/>
          <a:ext cx="6464160" cy="1225800"/>
        </p:xfrm>
        <a:graphic>
          <a:graphicData uri="http://schemas.openxmlformats.org/drawingml/2006/table">
            <a:tbl>
              <a:tblPr/>
              <a:tblGrid>
                <a:gridCol w="1631880"/>
                <a:gridCol w="2415960"/>
                <a:gridCol w="2416320"/>
              </a:tblGrid>
              <a:tr h="609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6" name="TextBox 9"/>
          <p:cNvSpPr/>
          <p:nvPr/>
        </p:nvSpPr>
        <p:spPr>
          <a:xfrm>
            <a:off x="914400" y="4338720"/>
            <a:ext cx="73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X: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+ 1.3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350–200) x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15 000 – 10 000) x 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+54.5%/+40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275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12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Box 10"/>
          <p:cNvSpPr/>
          <p:nvPr/>
        </p:nvSpPr>
        <p:spPr>
          <a:xfrm>
            <a:off x="917640" y="5394240"/>
            <a:ext cx="73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Y =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+ 0.19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54–50) x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15 000 – 10 000) x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=  +7.6%/+40%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52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12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40A1E1C5-606C-444A-8406-D39ABCEEF0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457200" y="1328760"/>
            <a:ext cx="84582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iven the following data.  Assume that the prices of X and Y do not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products X and Y normal go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1351080" y="2403360"/>
          <a:ext cx="6464160" cy="1225800"/>
        </p:xfrm>
        <a:graphic>
          <a:graphicData uri="http://schemas.openxmlformats.org/drawingml/2006/table">
            <a:tbl>
              <a:tblPr/>
              <a:tblGrid>
                <a:gridCol w="1631880"/>
                <a:gridCol w="2415960"/>
                <a:gridCol w="2416320"/>
              </a:tblGrid>
              <a:tr h="609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4" name="TextBox 9"/>
          <p:cNvSpPr/>
          <p:nvPr/>
        </p:nvSpPr>
        <p:spPr>
          <a:xfrm>
            <a:off x="787320" y="4551480"/>
            <a:ext cx="73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Yes.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Both products have a positive co-efficient; product X is a luxury with a co-efficient greater than 1, Y is a necessity with a co-efficient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oss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57200" y="1276200"/>
            <a:ext cx="822960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ponsiveness of the change in Qd of product A to a change in the price of product B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1213E238-7DA8-469D-8B2B-348AF5D1C3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ounded Rectangle 7"/>
          <p:cNvSpPr/>
          <p:nvPr/>
        </p:nvSpPr>
        <p:spPr>
          <a:xfrm>
            <a:off x="1328760" y="2498760"/>
            <a:ext cx="657072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1754280" y="2647800"/>
            <a:ext cx="5605200" cy="87336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3030480" y="4390920"/>
            <a:ext cx="3125880" cy="177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oss Elasticit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57200" y="10839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F6E387AC-C9F7-4F0F-ABC8-944CDD0DF1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712800" y="1522440"/>
          <a:ext cx="7709040" cy="1523880"/>
        </p:xfrm>
        <a:graphic>
          <a:graphicData uri="http://schemas.openxmlformats.org/drawingml/2006/table">
            <a:tbl>
              <a:tblPr/>
              <a:tblGrid>
                <a:gridCol w="1326960"/>
                <a:gridCol w="2632320"/>
                <a:gridCol w="1127160"/>
                <a:gridCol w="2622600"/>
              </a:tblGrid>
              <a:tr h="305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ar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 Demande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Week (lb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 Demande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Week (lb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2743200" y="4906800"/>
            <a:ext cx="3710160" cy="126216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3189240" y="3189240"/>
            <a:ext cx="2779920" cy="157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easure of how much quantity demanded changes as a result of a change in p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C33FD8AD-3B7E-4B39-B29D-62F6AE123D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ounded Rectangle 7"/>
          <p:cNvSpPr/>
          <p:nvPr/>
        </p:nvSpPr>
        <p:spPr>
          <a:xfrm>
            <a:off x="2743200" y="2498760"/>
            <a:ext cx="370044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2870280" y="2595600"/>
            <a:ext cx="3456000" cy="96660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3019320" y="4389480"/>
            <a:ext cx="3200400" cy="178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oss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C71250D2-57C7-4AAC-9744-B523DBE338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1670040" y="2247840"/>
          <a:ext cx="5869080" cy="2621160"/>
        </p:xfrm>
        <a:graphic>
          <a:graphicData uri="http://schemas.openxmlformats.org/drawingml/2006/table">
            <a:tbl>
              <a:tblPr/>
              <a:tblGrid>
                <a:gridCol w="2933640"/>
                <a:gridCol w="2935440"/>
              </a:tblGrid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If coefficient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Goods ar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titu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ga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9DAA4978-2BB9-41CB-B899-B5324A55D4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10" descr="4ElasticitySummary.bmp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08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76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68F5A4DE-489A-4A9A-918B-F8FB7A3D56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Definition, calculation, and determinants of price elasticity of demand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Difference between slope and elasticit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Relationship between elasticity and total revenu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Real world examples of elasticit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lasticity of supply, income elasticity, and cross-elasticity of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4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0839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: airline ticke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DAB8DBB6-F12E-4BD8-9162-FCD7CE591C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627120" y="1852560"/>
          <a:ext cx="7889760" cy="1676520"/>
        </p:xfrm>
        <a:graphic>
          <a:graphicData uri="http://schemas.openxmlformats.org/drawingml/2006/table">
            <a:tbl>
              <a:tblPr/>
              <a:tblGrid>
                <a:gridCol w="1542960"/>
                <a:gridCol w="1062000"/>
                <a:gridCol w="1214640"/>
                <a:gridCol w="1003320"/>
                <a:gridCol w="1079280"/>
                <a:gridCol w="1987560"/>
              </a:tblGrid>
              <a:tr h="28404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Edmo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Cal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Tic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Tic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7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944800" y="3668760"/>
            <a:ext cx="3191040" cy="7444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2774880" y="4592520"/>
            <a:ext cx="3433680" cy="70164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3125880" y="5443560"/>
            <a:ext cx="2903400" cy="73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65852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lasticity Coefficien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number that measures the responsiveness of quantity demanded to a change in price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9C7A0720-4F0C-45E1-9DAE-92F65A08E4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328760" y="3427560"/>
          <a:ext cx="6400800" cy="2527200"/>
        </p:xfrm>
        <a:graphic>
          <a:graphicData uri="http://schemas.openxmlformats.org/drawingml/2006/table">
            <a:tbl>
              <a:tblPr/>
              <a:tblGrid>
                <a:gridCol w="3200400"/>
                <a:gridCol w="3200400"/>
              </a:tblGrid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If coefficient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Demand i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ater than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than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 to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elastic Demand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ty demanded that is not very responsive to a change in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lastic Demand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ty demanded that is quite responsive to a change in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286C8E8C-B8E6-4155-8F3B-A5BCE9E2D4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Unitary Demand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oint where the percentage change in quantity is exactly equal to the percentage change in p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1A7080A9-395E-49FF-8B27-C87070A1EF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2DD95D4-D294-481C-ADD2-9977249222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elasticity coefficients for eac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ach set the change in price is $1 and the change in quantity is 1 unit. Why aren’t the coefficients the sam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1517760" y="1300320"/>
          <a:ext cx="6168960" cy="1523880"/>
        </p:xfrm>
        <a:graphic>
          <a:graphicData uri="http://schemas.openxmlformats.org/drawingml/2006/table">
            <a:tbl>
              <a:tblPr/>
              <a:tblGrid>
                <a:gridCol w="2195280"/>
                <a:gridCol w="1898640"/>
                <a:gridCol w="2075040"/>
              </a:tblGrid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6:28Z</dcterms:modified>
  <cp:revision>253</cp:revision>
  <dc:subject/>
  <dc:title>Slide 1</dc:title>
</cp:coreProperties>
</file>